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811120"/>
            <a:ext cx="1046484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3749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811120"/>
            <a:ext cx="5106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3749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811120"/>
            <a:ext cx="3369600" cy="313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044440"/>
            <a:ext cx="10464840" cy="285732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fffbf2"/>
                </a:solidFill>
                <a:latin typeface="Copperplate"/>
              </a:rPr>
              <a:t>Click to edit the title text format</a:t>
            </a:r>
            <a:endParaRPr b="0" lang="en-US" sz="94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40976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50760" rIns="50760" tIns="50760" bIns="507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Click to edit the outline text format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1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Second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2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Third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3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Four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4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Fif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5" algn="ctr">
              <a:buClr>
                <a:srgbClr val="fffbf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Six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6" algn="ctr">
              <a:buClr>
                <a:srgbClr val="fffbf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Seven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6896160"/>
            <a:ext cx="10464840" cy="210816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fbf2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fffbf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bf2"/>
                </a:solidFill>
                <a:latin typeface="Copperplate"/>
              </a:rPr>
              <a:t>Click to edit the title text format</a:t>
            </a:r>
            <a:endParaRPr b="0" lang="en-US" sz="68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35040" y="480060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50760" rIns="50760" tIns="50760" bIns="50760" anchor="t">
            <a:normAutofit fontScale="7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Click to edit the outline text format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1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Second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2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Third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3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Four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4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Fif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5" algn="ctr">
              <a:buClr>
                <a:srgbClr val="fffbf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Six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  <a:p>
            <a:pPr lvl="6" algn="ctr">
              <a:buClr>
                <a:srgbClr val="fffbf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df9"/>
                </a:solidFill>
                <a:latin typeface="Copperplate"/>
              </a:rPr>
              <a:t>Seventh Outline Level</a:t>
            </a:r>
            <a:endParaRPr b="0" lang="en-US" sz="3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269720" y="774360"/>
            <a:ext cx="10464840" cy="817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537120" indent="-304920">
              <a:spcBef>
                <a:spcPts val="65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1" marL="923760" indent="-304920">
              <a:spcBef>
                <a:spcPts val="65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2" marL="1310400" indent="-305280">
              <a:spcBef>
                <a:spcPts val="65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3" marL="1697400" indent="-305280">
              <a:spcBef>
                <a:spcPts val="65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4" marL="2083680" indent="-304920">
              <a:spcBef>
                <a:spcPts val="65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5" marL="2083680" indent="-304920">
              <a:spcBef>
                <a:spcPts val="65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6" marL="2083680" indent="-304920">
              <a:spcBef>
                <a:spcPts val="65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36560" y="254160"/>
            <a:ext cx="924552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/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36560" y="2374920"/>
            <a:ext cx="9245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4324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1" marL="93456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2" marL="1325520" indent="-30888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3" marL="1716840" indent="-30888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4" marL="210780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5" marL="210780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6" marL="210780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09960" y="254160"/>
            <a:ext cx="924552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/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3009960" y="2374920"/>
            <a:ext cx="9245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4324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1" marL="93456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2" marL="1325520" indent="-30888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3" marL="1716840" indent="-30888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4" marL="210780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5" marL="210780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6" marL="210780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4324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1" marL="93456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2" marL="1325520" indent="-30888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3" marL="1716840" indent="-30888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4" marL="210780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5" marL="210780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lvl="6" marL="2107800" indent="-308520">
              <a:spcBef>
                <a:spcPts val="4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69720" y="2374920"/>
            <a:ext cx="50418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44748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1" marL="78516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2" marL="112284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3" marL="146088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4" marL="179892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5" marL="179892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6" marL="179892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69720" y="2374920"/>
            <a:ext cx="504180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44748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1" marL="78516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2" marL="112284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3" marL="146088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4" marL="179892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5" marL="179892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6" marL="1798920" indent="-24480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269720" y="237492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512280" indent="-28008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1" marL="898920" indent="-28008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2" marL="1285560" indent="-28008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3" marL="1672200" indent="-28008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4" marL="2059200" indent="-28008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5" marL="2059200" indent="-28008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6" marL="2059200" indent="-28008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772040" y="2374920"/>
            <a:ext cx="396252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376920" indent="-20592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1" marL="661320" indent="-20592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2" marL="945720" indent="-20592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3" marL="1230120" indent="-20592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4" marL="1514880" indent="-20592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5" marL="1514880" indent="-20592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  <a:p>
            <a:pPr lvl="6" marL="1514880" indent="-205920">
              <a:spcBef>
                <a:spcPts val="50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730600"/>
            <a:ext cx="10464840" cy="427968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fffbf2"/>
                </a:solidFill>
                <a:latin typeface="Copperplate"/>
              </a:rPr>
              <a:t>Click to edit the title text format</a:t>
            </a:r>
            <a:endParaRPr b="0" lang="en-US" sz="9400" spc="-1" strike="noStrike">
              <a:solidFill>
                <a:srgbClr val="fffbf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chemicalelements.com/elements/sc.html" TargetMode="External"/><Relationship Id="rId3" Type="http://schemas.openxmlformats.org/officeDocument/2006/relationships/hyperlink" Target="http://www.ptable.com/" TargetMode="External"/><Relationship Id="rId4" Type="http://schemas.openxmlformats.org/officeDocument/2006/relationships/hyperlink" Target="http://www.ptable.com/" TargetMode="External"/><Relationship Id="rId5" Type="http://schemas.openxmlformats.org/officeDocument/2006/relationships/hyperlink" Target="http://en.wikipedia.org/wiki/Lars_Fredrik_Nilson" TargetMode="External"/><Relationship Id="rId6" Type="http://schemas.openxmlformats.org/officeDocument/2006/relationships/hyperlink" Target="http://en.wikipedia.org/wiki/Lars_Fredrik_Nilson" TargetMode="External"/><Relationship Id="rId7" Type="http://schemas.openxmlformats.org/officeDocument/2006/relationships/hyperlink" Target="http://www.worldbookonline.com/student/article?id=ar423320&amp;st=periodic%20table" TargetMode="External"/><Relationship Id="rId8" Type="http://schemas.openxmlformats.org/officeDocument/2006/relationships/hyperlink" Target="http://www.worldbookonline.com/student/article?id=ar493900&amp;st=scandium" TargetMode="External"/><Relationship Id="rId9" Type="http://schemas.openxmlformats.org/officeDocument/2006/relationships/hyperlink" Target="http://www.worldbookonline.com/student/article?id=ar493900&amp;st=scandium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98320" y="-2031840"/>
            <a:ext cx="10007640" cy="391140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bf2"/>
                </a:solidFill>
                <a:latin typeface="Copperplate"/>
              </a:rPr>
              <a:t>Scandium</a:t>
            </a:r>
            <a:endParaRPr b="0" lang="en-US" sz="14400" spc="-1" strike="noStrike">
              <a:solidFill>
                <a:srgbClr val="fffbf2"/>
              </a:solidFill>
              <a:latin typeface="Copperplate"/>
            </a:endParaRPr>
          </a:p>
        </p:txBody>
      </p:sp>
      <p:sp>
        <p:nvSpPr>
          <p:cNvPr id="529" name=""/>
          <p:cNvSpPr/>
          <p:nvPr/>
        </p:nvSpPr>
        <p:spPr>
          <a:xfrm>
            <a:off x="1778040" y="1720800"/>
            <a:ext cx="9435960" cy="115560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bf2"/>
                </a:solidFill>
                <a:latin typeface="Cochin"/>
                <a:ea typeface="Cochin"/>
              </a:rPr>
              <a:t>Sc</a:t>
            </a:r>
            <a:endParaRPr b="0" lang="en-US" sz="7200" spc="-1" strike="noStrike">
              <a:solidFill>
                <a:srgbClr val="fffbf2"/>
              </a:solidFill>
              <a:latin typeface="Cochin"/>
            </a:endParaRPr>
          </a:p>
        </p:txBody>
      </p:sp>
      <p:sp>
        <p:nvSpPr>
          <p:cNvPr id="530" name=""/>
          <p:cNvSpPr/>
          <p:nvPr/>
        </p:nvSpPr>
        <p:spPr>
          <a:xfrm>
            <a:off x="2133720" y="2889360"/>
            <a:ext cx="8724960" cy="219708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bf2"/>
                </a:solidFill>
                <a:latin typeface="Cochin"/>
                <a:ea typeface="Cochin"/>
              </a:rPr>
              <a:t>Atomic Number: 21</a:t>
            </a:r>
            <a:endParaRPr b="0" lang="en-US" sz="4800" spc="-1" strike="noStrike">
              <a:solidFill>
                <a:srgbClr val="fffbf2"/>
              </a:solidFill>
              <a:latin typeface="Cochi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bf2"/>
                </a:solidFill>
                <a:latin typeface="Cochin"/>
                <a:ea typeface="Cochin"/>
              </a:rPr>
              <a:t>Atomic Mass: 44.955910</a:t>
            </a:r>
            <a:endParaRPr b="0" lang="en-US" sz="4800" spc="-1" strike="noStrike">
              <a:solidFill>
                <a:srgbClr val="fffbf2"/>
              </a:solidFill>
              <a:latin typeface="Cochi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bf2"/>
              </a:solidFill>
              <a:latin typeface="Cochi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4102200" y="4800600"/>
            <a:ext cx="4802040" cy="35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-127440"/>
            <a:ext cx="10464840" cy="1994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b7786"/>
                </a:solidFill>
                <a:latin typeface="Copperplate"/>
              </a:rPr>
              <a:t>Location &amp; structure</a:t>
            </a:r>
            <a:endParaRPr b="0" lang="en-US" sz="7200" spc="-1" strike="noStrike">
              <a:solidFill>
                <a:srgbClr val="6b7786"/>
              </a:solidFill>
              <a:latin typeface="Copperplate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571680" y="1587600"/>
            <a:ext cx="5640120" cy="37972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1257480" y="3174840"/>
            <a:ext cx="444240" cy="4320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835760" y="5153040"/>
            <a:ext cx="3302280" cy="32670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6477840" y="2262960"/>
            <a:ext cx="39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chin"/>
                <a:ea typeface="Cochin"/>
              </a:rPr>
              <a:t>Group 3, Period 4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</p:txBody>
      </p:sp>
      <p:sp>
        <p:nvSpPr>
          <p:cNvPr id="537" name=""/>
          <p:cNvSpPr/>
          <p:nvPr/>
        </p:nvSpPr>
        <p:spPr>
          <a:xfrm>
            <a:off x="3379320" y="5978880"/>
            <a:ext cx="407736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chin"/>
                <a:ea typeface="Cochin"/>
              </a:rPr>
              <a:t>Atomic Structure: 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chin"/>
                <a:ea typeface="Cochin"/>
              </a:rPr>
              <a:t>21 Protons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chin"/>
                <a:ea typeface="Cochin"/>
              </a:rPr>
              <a:t>24 Neutrons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chin"/>
                <a:ea typeface="Cochin"/>
              </a:rPr>
              <a:t>21 Electrons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1675800" y="2590560"/>
            <a:ext cx="4825800" cy="672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bf2"/>
              </a:solidFill>
              <a:latin typeface="Cochi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698040"/>
            <a:ext cx="10464840" cy="1994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b7786"/>
                </a:solidFill>
                <a:latin typeface="Copperplate"/>
              </a:rPr>
              <a:t>Isotopes &amp; Ions</a:t>
            </a:r>
            <a:endParaRPr b="0" lang="en-US" sz="72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1587240"/>
            <a:ext cx="1046484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68160" indent="-350640">
              <a:lnSpc>
                <a:spcPct val="100000"/>
              </a:lnSpc>
              <a:spcBef>
                <a:spcPts val="40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Isotopes: Sc 44, Sc 45, Sc 46, Sc 47, Sc 48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marL="668160" indent="-350640">
              <a:lnSpc>
                <a:spcPct val="100000"/>
              </a:lnSpc>
              <a:spcBef>
                <a:spcPts val="40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Ions: Sc +1, Sc+2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opperplate"/>
              </a:rPr>
              <a:t>Discovered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69720" y="-25416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68160" indent="-350640">
              <a:lnSpc>
                <a:spcPct val="100000"/>
              </a:lnSpc>
              <a:spcBef>
                <a:spcPts val="40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Discovered By Lars Fredrik Nilson in 1879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marL="668160" indent="-350640">
              <a:lnSpc>
                <a:spcPct val="100000"/>
              </a:lnSpc>
              <a:spcBef>
                <a:spcPts val="40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Discovered in Scandinavia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4"/>
          <a:stretch/>
        </p:blipFill>
        <p:spPr>
          <a:xfrm>
            <a:off x="851040" y="4635360"/>
            <a:ext cx="5905440" cy="42037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5"/>
          <a:stretch/>
        </p:blipFill>
        <p:spPr>
          <a:xfrm>
            <a:off x="7670880" y="4673520"/>
            <a:ext cx="4448160" cy="41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495360"/>
            <a:ext cx="1046484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b7786"/>
                </a:solidFill>
                <a:latin typeface="Copperplate"/>
              </a:rPr>
              <a:t>Physical Properties</a:t>
            </a:r>
            <a:endParaRPr b="0" lang="en-US" sz="7200" spc="-1" strike="noStrike">
              <a:solidFill>
                <a:srgbClr val="6b7786"/>
              </a:solidFill>
              <a:latin typeface="Copperplate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4064040" y="2844720"/>
            <a:ext cx="4879800" cy="353052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1571760" y="7358040"/>
            <a:ext cx="98517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chin"/>
                <a:ea typeface="Cochin"/>
              </a:rPr>
              <a:t>Scandium is a powdery, silvery white metal.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chin"/>
                <a:ea typeface="Cochin"/>
              </a:rPr>
              <a:t>It is relatively light, and is very strong.</a:t>
            </a:r>
            <a:endParaRPr b="0" lang="en-US" sz="3800" spc="-1" strike="noStrike">
              <a:solidFill>
                <a:srgbClr val="fffbf2"/>
              </a:solidFill>
              <a:latin typeface="Cochi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opperplate"/>
              </a:rPr>
              <a:t>Uses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9720" y="105408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68160" indent="-350640">
              <a:lnSpc>
                <a:spcPct val="100000"/>
              </a:lnSpc>
              <a:spcBef>
                <a:spcPts val="40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candium is used in military aircrafts and space shuttle parts.  Mixtures of aluminum and scandium were used in the Russian space crafts Mig 21, and Mig 29.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marL="668160" indent="-350640">
              <a:lnSpc>
                <a:spcPct val="100000"/>
              </a:lnSpc>
              <a:spcBef>
                <a:spcPts val="40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candium is also used in high performance sports equipment, such as hockey sticks, baseball bats, and bicycle frames.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4"/>
          <a:stretch/>
        </p:blipFill>
        <p:spPr>
          <a:xfrm>
            <a:off x="7669080" y="7480440"/>
            <a:ext cx="3024360" cy="199368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5"/>
          <a:stretch/>
        </p:blipFill>
        <p:spPr>
          <a:xfrm>
            <a:off x="2425680" y="7581960"/>
            <a:ext cx="179064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b7786"/>
                </a:solidFill>
                <a:latin typeface="Copperplate"/>
              </a:rPr>
              <a:t>Facts about Scandium</a:t>
            </a:r>
            <a:endParaRPr b="0" lang="en-US" sz="72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69720" y="1002960"/>
            <a:ext cx="10464840" cy="877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68160" indent="-350640">
              <a:lnSpc>
                <a:spcPct val="100000"/>
              </a:lnSpc>
              <a:spcBef>
                <a:spcPts val="40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candium is very rare.  It’s only mined in a handful of mines worldwide.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marL="668160" indent="-350640">
              <a:lnSpc>
                <a:spcPct val="100000"/>
              </a:lnSpc>
              <a:spcBef>
                <a:spcPts val="40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Even though it was discovered in 1879 it had no uses until 1970.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marL="668160" indent="-350640">
              <a:lnSpc>
                <a:spcPct val="100000"/>
              </a:lnSpc>
              <a:spcBef>
                <a:spcPts val="40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Even today scandium has very few uses.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marL="668160" indent="-350640">
              <a:lnSpc>
                <a:spcPct val="100000"/>
              </a:lnSpc>
              <a:spcBef>
                <a:spcPts val="40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Pure scandium is very rare.  It is usually found in uranium.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  <a:p>
            <a:pPr marL="668160" indent="-350640">
              <a:lnSpc>
                <a:spcPct val="100000"/>
              </a:lnSpc>
              <a:spcBef>
                <a:spcPts val="40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chin"/>
              </a:rPr>
              <a:t>Scandium is sometimes classified as a rare earth element.</a:t>
            </a:r>
            <a:endParaRPr b="0" lang="en-US" sz="4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99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d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b7786"/>
                </a:solidFill>
                <a:latin typeface="Copperplate"/>
              </a:rPr>
              <a:t>Bibliography</a:t>
            </a:r>
            <a:endParaRPr b="0" lang="en-US" sz="7800" spc="-1" strike="noStrike">
              <a:solidFill>
                <a:srgbClr val="6b7786"/>
              </a:solidFill>
              <a:latin typeface="Copperplate"/>
            </a:endParaRPr>
          </a:p>
        </p:txBody>
      </p:sp>
      <p:sp>
        <p:nvSpPr>
          <p:cNvPr id="555" name=""/>
          <p:cNvSpPr/>
          <p:nvPr/>
        </p:nvSpPr>
        <p:spPr>
          <a:xfrm>
            <a:off x="1440" y="2101680"/>
            <a:ext cx="129924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Works Cited</a:t>
            </a:r>
            <a:endParaRPr b="0" lang="en-US" sz="1200" spc="-1" strike="noStrike">
              <a:solidFill>
                <a:srgbClr val="fffbf2"/>
              </a:solidFill>
              <a:latin typeface="Coch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"Chemical Elements.com - Scandium (Sc)." </a:t>
            </a:r>
            <a:r>
              <a:rPr b="0" i="1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Chemical Elements.com - An Interactive Periodic Table of the Elements</a:t>
            </a: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. N.p., n.d. Web. 24 Nov. 2009. &lt;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chemicalelements.com/elements/sc.html</a:t>
            </a: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&gt;.</a:t>
            </a:r>
            <a:endParaRPr b="0" lang="en-US" sz="1200" spc="-1" strike="noStrike">
              <a:solidFill>
                <a:srgbClr val="fffbf2"/>
              </a:solidFill>
              <a:latin typeface="Coch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"Dynamic Periodic Table." </a:t>
            </a:r>
            <a:r>
              <a:rPr b="0" i="1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Dynamic Periodic Table</a:t>
            </a: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. N.p., n.d. Web. 24 Nov. 2009. &lt;</a:t>
            </a:r>
            <a:r>
              <a:rPr b="0" lang="en-US" sz="1200" spc="-1" strike="noStrike" u="sng">
                <a:solidFill>
                  <a:srgbClr val="fffbf2"/>
                </a:solidFill>
                <a:uFillTx/>
                <a:latin typeface="Arial"/>
                <a:ea typeface="Arial"/>
              </a:rPr>
              <a:t>http://www.ptable.com/</a:t>
            </a: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&gt;.</a:t>
            </a:r>
            <a:endParaRPr b="0" lang="en-US" sz="1200" spc="-1" strike="noStrike">
              <a:solidFill>
                <a:srgbClr val="fffbf2"/>
              </a:solidFill>
              <a:latin typeface="Coch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"Hockey Stick." </a:t>
            </a:r>
            <a:r>
              <a:rPr b="0" i="1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Cincinn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ati Hockey Equipment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. </a:t>
            </a:r>
            <a:r>
              <a:rPr b="0" lang="en-US" sz="1200" spc="-1" strike="noStrike" u="sng">
                <a:solidFill>
                  <a:srgbClr val="fffbf2"/>
                </a:solidFill>
                <a:uFillTx/>
                <a:latin typeface="Arial"/>
                <a:ea typeface="Arial"/>
              </a:rPr>
              <a:t>N.p., n.d. Web. 9 Nov. 1924. &lt;cincinnatihockeyequipment.com/images/Hockey-Sticks-STICK-1-.jpg&gt;.</a:t>
            </a:r>
            <a:endParaRPr b="0" lang="en-US" sz="1200" spc="-1" strike="noStrike">
              <a:solidFill>
                <a:srgbClr val="fffbf2"/>
              </a:solidFill>
              <a:latin typeface="Coch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"Lars Fredrik Nilson - Wikipedia, the free encyclopedia." </a:t>
            </a:r>
            <a:r>
              <a:rPr b="0" i="1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Wikipedia, the free encyclopedia</a:t>
            </a: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. N.p., n.d. Web. 24 Nov. 2009. &lt;</a:t>
            </a:r>
            <a:r>
              <a:rPr b="0" lang="en-US" sz="1200" spc="-1" strike="noStrike" u="sng">
                <a:solidFill>
                  <a:srgbClr val="fffbf2"/>
                </a:solidFill>
                <a:uFillTx/>
                <a:latin typeface="Arial"/>
                <a:ea typeface="Arial"/>
              </a:rPr>
              <a:t>http://en.wikipedia.org/wiki/Lars_Fredrik_Nilson</a:t>
            </a: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&gt;.</a:t>
            </a:r>
            <a:endParaRPr b="0" lang="en-US" sz="1200" spc="-1" strike="noStrike">
              <a:solidFill>
                <a:srgbClr val="fffbf2"/>
              </a:solidFill>
              <a:latin typeface="Coch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"Periodic Table of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 the Elements."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Prairie Hills Middle School hand</a:t>
            </a:r>
            <a:r>
              <a:rPr b="0" lang="en-US" sz="1200" spc="-1" strike="noStrike" u="sng">
                <a:solidFill>
                  <a:srgbClr val="fffbf2"/>
                </a:solidFill>
                <a:uFillTx/>
                <a:latin typeface="Arial"/>
                <a:ea typeface="Arial"/>
              </a:rPr>
              <a:t>book 2009-2010</a:t>
            </a: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 Aug. 2009: 109. Print.</a:t>
            </a:r>
            <a:endParaRPr b="0" lang="en-US" sz="1200" spc="-1" strike="noStrike">
              <a:solidFill>
                <a:srgbClr val="fffbf2"/>
              </a:solidFill>
              <a:latin typeface="Coch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"Periodic Table." </a:t>
            </a:r>
            <a:r>
              <a:rPr b="0" i="1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World Book Student</a:t>
            </a: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. N.p., n.d. Web. 9 Nov. 1924. &lt;/</a:t>
            </a:r>
            <a:r>
              <a:rPr b="0" lang="en-US" sz="1200" spc="-1" strike="noStrike" u="sng">
                <a:solidFill>
                  <a:srgbClr val="fffbf2"/>
                </a:solidFill>
                <a:uFillTx/>
                <a:latin typeface="Arial"/>
                <a:ea typeface="Arial"/>
              </a:rPr>
              <a:t>www.worldbookonline.com/student/article?id=ar423320&amp;st=periodic%20table</a:t>
            </a: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&gt;.</a:t>
            </a:r>
            <a:endParaRPr b="0" lang="en-US" sz="1200" spc="-1" strike="noStrike">
              <a:solidFill>
                <a:srgbClr val="fffbf2"/>
              </a:solidFill>
              <a:latin typeface="Coch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"Scandinavia." </a:t>
            </a:r>
            <a:r>
              <a:rPr b="0" i="1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World Book</a:t>
            </a: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. N.p., n.d. Web. 9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7"/>
              </a:rPr>
              <a:t> Nov. 2019. &lt;worldbookonline.com/student/extmedia?id=ar493840&amp;st=scandi</a:t>
            </a:r>
            <a:r>
              <a:rPr b="0" lang="en-US" sz="1200" spc="-1" strike="noStrike" u="sng">
                <a:solidFill>
                  <a:srgbClr val="fffbf2"/>
                </a:solidFill>
                <a:uFillTx/>
                <a:latin typeface="Arial"/>
                <a:ea typeface="Arial"/>
              </a:rPr>
              <a:t>navia&amp;em=lr001710&gt;.</a:t>
            </a:r>
            <a:endParaRPr b="0" lang="en-US" sz="1200" spc="-1" strike="noStrike">
              <a:solidFill>
                <a:srgbClr val="fffbf2"/>
              </a:solidFill>
              <a:latin typeface="Coch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"Scandium." </a:t>
            </a:r>
            <a:r>
              <a:rPr b="0" i="1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World Book Student</a:t>
            </a: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. N.p., n.d. Web. 9 Nov. 1924. &lt;</a:t>
            </a:r>
            <a:r>
              <a:rPr b="0" lang="en-US" sz="1200" spc="-1" strike="noStrike" u="sng">
                <a:solidFill>
                  <a:srgbClr val="fffbf2"/>
                </a:solidFill>
                <a:uFillTx/>
                <a:latin typeface="Arial"/>
                <a:ea typeface="Arial"/>
              </a:rPr>
              <a:t>www.worldbookonline.com/student/article?id=ar493900&amp;st=scandium</a:t>
            </a: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&gt;.</a:t>
            </a:r>
            <a:endParaRPr b="0" lang="en-US" sz="1200" spc="-1" strike="noStrike">
              <a:solidFill>
                <a:srgbClr val="fffbf2"/>
              </a:solidFill>
              <a:latin typeface="Coch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"Scandium." </a:t>
            </a:r>
            <a:r>
              <a:rPr b="0" i="1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World Book</a:t>
            </a: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. Student ed. 2009. </a:t>
            </a:r>
            <a:r>
              <a:rPr b="0" i="1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World Book</a:t>
            </a: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. Web. 24 Nov. 2009.</a:t>
            </a:r>
            <a:endParaRPr b="0" lang="en-US" sz="1200" spc="-1" strike="noStrike">
              <a:solidFill>
                <a:srgbClr val="fffbf2"/>
              </a:solidFill>
              <a:latin typeface="Coch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"Science PortaPortal." </a:t>
            </a:r>
            <a:r>
              <a:rPr b="0" i="1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portaportal Guest Search</a:t>
            </a: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8"/>
              </a:rPr>
              <a:t>N.p., n.d. Web. 19 Nov. 2009. &lt;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9"/>
              </a:rPr>
              <a:t>http://guest.portaportal.com/mrs</a:t>
            </a:r>
            <a:r>
              <a:rPr b="0" lang="en-US" sz="1200" spc="-1" strike="noStrike" u="sng">
                <a:solidFill>
                  <a:srgbClr val="fffbf2"/>
                </a:solidFill>
                <a:uFillTx/>
                <a:latin typeface="Arial"/>
                <a:ea typeface="Arial"/>
              </a:rPr>
              <a:t>.poulseen</a:t>
            </a: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&gt;.</a:t>
            </a:r>
            <a:endParaRPr b="0" lang="en-US" sz="1200" spc="-1" strike="noStrike">
              <a:solidFill>
                <a:srgbClr val="fffbf2"/>
              </a:solidFill>
              <a:latin typeface="Coch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"World Book." </a:t>
            </a:r>
            <a:r>
              <a:rPr b="0" i="1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World Book</a:t>
            </a: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. N.p., n.d. Web. 9 Nov. 2019. &lt;</a:t>
            </a:r>
            <a:r>
              <a:rPr b="0" lang="en-US" sz="1200" spc="-1" strike="noStrike" u="sng">
                <a:solidFill>
                  <a:srgbClr val="fffbf2"/>
                </a:solidFill>
                <a:uFillTx/>
                <a:latin typeface="Arial"/>
                <a:ea typeface="Arial"/>
              </a:rPr>
              <a:t>www.worldbookonline.com/student/home?null&amp;gr=Welcome+Kansas+Education</a:t>
            </a:r>
            <a:r>
              <a:rPr b="0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&gt;.</a:t>
            </a:r>
            <a:endParaRPr b="0" lang="en-US" sz="1200" spc="-1" strike="noStrike">
              <a:solidFill>
                <a:srgbClr val="fffbf2"/>
              </a:solidFill>
              <a:latin typeface="Cochin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bf2"/>
              </a:solidFill>
              <a:latin typeface="Cochin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bf2"/>
              </a:solidFill>
              <a:latin typeface="Cochin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bf2"/>
                </a:solidFill>
                <a:latin typeface="Arial"/>
                <a:ea typeface="Arial"/>
              </a:rPr>
              <a:t>MLA formatting by BibMe.org.</a:t>
            </a:r>
            <a:endParaRPr b="0" lang="en-US" sz="1200" spc="-1" strike="noStrike">
              <a:solidFill>
                <a:srgbClr val="fffbf2"/>
              </a:solidFill>
              <a:latin typeface="Cochi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bf2"/>
              </a:solidFill>
              <a:latin typeface="Cochi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